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72658"/>
        <c:axId val="90824794"/>
      </c:barChart>
      <c:catAx>
        <c:axId val="62572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24794"/>
        <c:crosses val="autoZero"/>
        <c:auto val="1"/>
        <c:lblAlgn val="ctr"/>
        <c:lblOffset val="100"/>
        <c:noMultiLvlLbl val="0"/>
      </c:catAx>
      <c:valAx>
        <c:axId val="90824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72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1D9-7386-4537-B8E8-F5815976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383-EF6A-42DC-A426-D29B1CB3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B69-7A18-448D-84C3-0DE75086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16F-726F-45C0-9941-F2FBB5F8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D0F-B558-41C9-8AC8-2DD2C59F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57D-146F-43BE-8904-D965CCF9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8A6-625F-4473-BF8F-C2EA64FF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FDE-D0E9-49FA-960A-E37251C5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F7A-D547-440F-AF69-395E100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A09-15AD-4621-92B0-CD53D98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4CE-F5C6-4E09-9740-3138B7DF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F4E-7EA3-4038-9B7D-BB3B7DBC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D4B5E-188E-4C5F-B915-F297C31CB8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