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6472659"/>
        <c:axId val="92380404"/>
      </c:barChart>
      <c:catAx>
        <c:axId val="2647265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380404"/>
        <c:crosses val="autoZero"/>
        <c:auto val="1"/>
        <c:lblAlgn val="ctr"/>
        <c:lblOffset val="100"/>
        <c:noMultiLvlLbl val="0"/>
      </c:catAx>
      <c:valAx>
        <c:axId val="9238040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47265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F8E7-0C5E-457E-8815-2A77CC4FF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176B-F104-490D-831A-DD84AA4B9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6015-D479-4147-8307-C05529FFB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995F-3D88-4C8C-829D-ED065CB20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9AF6-D395-41B6-B8A9-1715174D6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EF26-C105-4C9E-9E4D-36752631A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BFCA-B779-4AB6-A77D-B11DB9473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20B8-3021-4B24-BBFB-6FBAFEC31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90C7-31E1-4B57-974E-F20839D27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3730-E0E5-4E43-8EC9-8352598F3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6FA7-4B4F-47FB-AE38-4EA0174ED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13E8-36A3-4444-8650-794A5B8E4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20E79C-B052-4226-A995-1DE3893F0D9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