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3847"/>
        <c:axId val="41111358"/>
      </c:barChart>
      <c:catAx>
        <c:axId val="9643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11358"/>
        <c:crosses val="autoZero"/>
        <c:auto val="1"/>
        <c:lblAlgn val="ctr"/>
        <c:lblOffset val="100"/>
        <c:noMultiLvlLbl val="0"/>
      </c:catAx>
      <c:valAx>
        <c:axId val="411113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3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B15A-881B-4A0A-8A86-6C4B3972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9A16-5D15-4458-A6CC-36369DCB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EDD7-5D20-464D-A199-45B9775A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04FA-501C-46E5-9810-77851746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3CE-14D8-4F5C-BA95-24B24EE7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DF4-5B9F-48A2-88A3-1D7EDCCB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697-0F6B-437B-AC00-9C0BA4D0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274-99A8-4773-99C0-CCA0522E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AF3-97F9-4E92-916B-12900E17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03D-9A0D-45BC-9A9B-DC8323D1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5FF1-47A2-412A-92E3-0407570B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80DA-06B5-4745-B334-28A2D63A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9EFB0-09A7-44CD-9651-7352004E2F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