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602591"/>
        <c:axId val="69121201"/>
      </c:barChart>
      <c:catAx>
        <c:axId val="476025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21201"/>
        <c:crosses val="autoZero"/>
        <c:auto val="1"/>
        <c:lblAlgn val="ctr"/>
        <c:lblOffset val="100"/>
        <c:noMultiLvlLbl val="0"/>
      </c:catAx>
      <c:valAx>
        <c:axId val="691212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025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877B-E82A-4218-AFFD-42A077E1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E4C0-64FE-44DB-A06C-0AF61E9E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2BF8-DC28-44F0-981E-BB8FEAE2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E65A-7D45-406B-815F-242992B3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7AB1-D3E3-4797-A34E-D6741C6C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A3D1-F8D4-4D24-B9F8-93F2AAF1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734-2D83-45C8-B229-EB892630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D09-502B-4E38-9CE6-564A4F9A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8DA6-EF41-401B-9C44-B29CE4E5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EECC-A9A4-4F69-9C92-AE520991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20F-B6A8-4508-9046-FC21A0C2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3BF8-1D3D-4E8E-8AB0-4DE17EEF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29A0E-9A53-42F5-A74A-B691A51783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